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3.wmf" ContentType="image/x-wmf"/>
  <Override PartName="/ppt/media/image45.png" ContentType="image/pn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19.jpeg" ContentType="image/jpeg"/>
  <Override PartName="/ppt/media/image21.jpeg" ContentType="image/jpeg"/>
  <Override PartName="/ppt/media/image80.jpeg" ContentType="image/jpeg"/>
  <Override PartName="/ppt/media/image22.jpeg" ContentType="image/jpeg"/>
  <Override PartName="/ppt/media/image75.png" ContentType="image/png"/>
  <Override PartName="/ppt/media/image81.jpeg" ContentType="image/jpeg"/>
  <Override PartName="/ppt/media/image14.jpeg" ContentType="image/jpeg"/>
  <Override PartName="/ppt/media/image24.jpeg" ContentType="image/jpeg"/>
  <Override PartName="/ppt/media/image83.jpeg" ContentType="image/jpeg"/>
  <Override PartName="/ppt/media/image82.jpeg" ContentType="image/jpeg"/>
  <Override PartName="/ppt/media/image23.jpeg" ContentType="image/jpeg"/>
  <Override PartName="/ppt/media/image77.png" ContentType="image/png"/>
  <Override PartName="/ppt/media/image64.jpeg" ContentType="image/jpeg"/>
  <Override PartName="/ppt/media/image7.jpeg" ContentType="image/jpeg"/>
  <Override PartName="/ppt/media/image38.jpeg" ContentType="image/jpeg"/>
  <Override PartName="/ppt/media/image73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7.jpeg" ContentType="image/jpeg"/>
  <Override PartName="/ppt/media/image20.jpeg" ContentType="image/jpeg"/>
  <Override PartName="/ppt/media/image17.jpeg" ContentType="image/jpeg"/>
  <Override PartName="/ppt/media/image61.jpeg" ContentType="image/jpeg"/>
  <Override PartName="/ppt/media/image78.jpeg" ContentType="image/jpeg"/>
  <Override PartName="/ppt/media/image16.jpeg" ContentType="image/jpeg"/>
  <Override PartName="/ppt/media/image60.jpeg" ContentType="image/jpeg"/>
  <Override PartName="/ppt/media/image18.jpeg" ContentType="image/jpeg"/>
  <Override PartName="/ppt/media/image84.png" ContentType="image/png"/>
  <Override PartName="/ppt/media/image7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41.jpeg" ContentType="image/jpeg"/>
  <Override PartName="/ppt/media/image66.png" ContentType="image/png"/>
  <Override PartName="/ppt/media/image54.png" ContentType="image/png"/>
  <Override PartName="/ppt/media/image7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5.jpeg" ContentType="image/jpeg"/>
  <Override PartName="/ppt/media/image1.png" ContentType="image/png"/>
  <Override PartName="/ppt/media/image5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.wmf" ContentType="image/x-wmf"/>
  <Override PartName="/ppt/media/image85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74.jpeg" ContentType="image/jpeg"/>
  <Override PartName="/ppt/media/image3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826560" y="638136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Arial"/>
              </a:rPr>
              <a:t>Red Ciudadana Frente a los Transgénicos en El Salv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502480" y="6165720"/>
            <a:ext cx="641520" cy="6922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8467560" y="6093000"/>
            <a:ext cx="67644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2"/>
          </p:nvPr>
        </p:nvSpPr>
        <p:spPr>
          <a:xfrm>
            <a:off x="826920" y="6381720"/>
            <a:ext cx="7490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ffffff"/>
                </a:solidFill>
                <a:latin typeface="Arial"/>
              </a:rPr>
              <a:t>Red Ciudadana Frente a los Transgénicos en El Salv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569440" y="6237360"/>
            <a:ext cx="57456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467560" y="6093000"/>
            <a:ext cx="676440" cy="76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2.jpeg"/><Relationship Id="rId3" Type="http://schemas.openxmlformats.org/officeDocument/2006/relationships/slide" Target="slide68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3.xml"/><Relationship Id="rId3" Type="http://schemas.openxmlformats.org/officeDocument/2006/relationships/slide" Target="slide63.xml"/><Relationship Id="rId4" Type="http://schemas.openxmlformats.org/officeDocument/2006/relationships/image" Target="../media/image48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png"/><Relationship Id="rId5" Type="http://schemas.openxmlformats.org/officeDocument/2006/relationships/image" Target="../media/image76.jpeg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84.pn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¡ </a:t>
            </a:r>
            <a:r>
              <a:rPr b="1" lang="es-ES" sz="4000" spc="-1" strike="noStrike">
                <a:solidFill>
                  <a:srgbClr val="ff0000"/>
                </a:solidFill>
                <a:latin typeface="Arial Black"/>
              </a:rPr>
              <a:t>Bienvenidas y Bienvenidos!</a:t>
            </a:r>
            <a:endParaRPr b="1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16000" y="2205000"/>
            <a:ext cx="6838920" cy="3787920"/>
            <a:chOff x="1116000" y="2205000"/>
            <a:chExt cx="6838920" cy="3787920"/>
          </a:xfrm>
        </p:grpSpPr>
        <p:sp>
          <p:nvSpPr>
            <p:cNvPr id="103" name=""/>
            <p:cNvSpPr/>
            <p:nvPr/>
          </p:nvSpPr>
          <p:spPr>
            <a:xfrm>
              <a:off x="1835280" y="2205000"/>
              <a:ext cx="6119640" cy="2266920"/>
            </a:xfrm>
            <a:prstGeom prst="wedgeEllipseCallout">
              <a:avLst>
                <a:gd name="adj1" fmla="val -35629"/>
                <a:gd name="adj2" fmla="val 81370"/>
              </a:avLst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ff00"/>
                  </a:solidFill>
                  <a:latin typeface="Arial"/>
                </a:rPr>
                <a:t>¡</a:t>
              </a: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i="1" lang="es-ES" sz="2000" spc="-1" strike="noStrike">
                  <a:solidFill>
                    <a:srgbClr val="ffff00"/>
                  </a:solidFill>
                  <a:latin typeface="Arial"/>
                </a:rPr>
                <a:t>Siéntense y pónganse cómodos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116000" y="4869000"/>
              <a:ext cx="136836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1. La ingeniería genética en la agricultur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tecnología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“Terminator”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Las semillas se autodestruyen para que los granos de la nueva cosecha no sirvan para una nueva siembra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semillas adictas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Los genes están manipulados para que su crecimiento dependa de la repetida aplicación de ciertos productos agroquímicos fabricados y vendidos por las mismas empresa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I. </a:t>
            </a: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Qué significa „Transgénico“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2229120" cy="2606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80000" y="2637000"/>
            <a:ext cx="3240000" cy="3087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3132000" y="34290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0000" y="299736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429000"/>
            <a:ext cx="72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Qué es la célula?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06864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itoplas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40000" y="2420640"/>
            <a:ext cx="4968720" cy="3664080"/>
            <a:chOff x="2340000" y="2420640"/>
            <a:chExt cx="4968720" cy="36640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627280" y="2637000"/>
              <a:ext cx="4440240" cy="34477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41" name=""/>
            <p:cNvSpPr/>
            <p:nvPr/>
          </p:nvSpPr>
          <p:spPr>
            <a:xfrm flipV="1">
              <a:off x="4859280" y="2421000"/>
              <a:ext cx="2233800" cy="1800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012000" y="3428640"/>
              <a:ext cx="1296720" cy="934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627280" y="2420640"/>
              <a:ext cx="2016000" cy="1368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340000" y="3284640"/>
              <a:ext cx="2160720" cy="2232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020000" y="1989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romoso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7813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embrana cel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98900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40000" y="1628640"/>
            <a:ext cx="4687920" cy="50371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Qué son los cromosomas  el ADN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877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5157720"/>
            <a:ext cx="1368360" cy="368280"/>
          </a:xfrm>
          <a:prstGeom prst="rect">
            <a:avLst/>
          </a:prstGeom>
          <a:solidFill>
            <a:srgbClr val="00ff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Proteí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0920" y="5661000"/>
            <a:ext cx="129708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967000">
            <a:off x="5276520" y="5516280"/>
            <a:ext cx="2230560" cy="217440"/>
          </a:xfrm>
          <a:custGeom>
            <a:avLst/>
            <a:gdLst>
              <a:gd name="textAreaLeft" fmla="*/ 348480 w 2230560"/>
              <a:gd name="textAreaRight" fmla="*/ 2117520 w 2230560"/>
              <a:gd name="textAreaTop" fmla="*/ 72720 h 217440"/>
              <a:gd name="textAreaBottom" fmla="*/ 14472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7231"/>
                </a:moveTo>
                <a:lnTo>
                  <a:pt x="18285" y="7231"/>
                </a:lnTo>
                <a:lnTo>
                  <a:pt x="18285" y="0"/>
                </a:lnTo>
                <a:lnTo>
                  <a:pt x="21600" y="10800"/>
                </a:lnTo>
                <a:lnTo>
                  <a:pt x="18285" y="21600"/>
                </a:lnTo>
                <a:lnTo>
                  <a:pt x="18285" y="14369"/>
                </a:lnTo>
                <a:lnTo>
                  <a:pt x="3375" y="14369"/>
                </a:lnTo>
                <a:close/>
              </a:path>
              <a:path w="21600" h="21600">
                <a:moveTo>
                  <a:pt x="0" y="7231"/>
                </a:moveTo>
                <a:lnTo>
                  <a:pt x="675" y="7231"/>
                </a:lnTo>
                <a:lnTo>
                  <a:pt x="675" y="14369"/>
                </a:lnTo>
                <a:lnTo>
                  <a:pt x="0" y="14369"/>
                </a:lnTo>
                <a:close/>
              </a:path>
              <a:path w="21600" h="21600">
                <a:moveTo>
                  <a:pt x="1350" y="7231"/>
                </a:moveTo>
                <a:lnTo>
                  <a:pt x="2700" y="7231"/>
                </a:lnTo>
                <a:lnTo>
                  <a:pt x="2700" y="14369"/>
                </a:lnTo>
                <a:lnTo>
                  <a:pt x="1350" y="14369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5445000"/>
            <a:ext cx="35856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l promotor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una torre de contro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jemplo: insuli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cuando se come azúca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un mensaje llega a las células que producen insulina: “Necesito más insulina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el promotor que se encuentra frente al gen responsable activa el proceso de expresión de este ge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los genes ahora activos producen la hormona insuli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Otra vez…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00280"/>
            <a:ext cx="80074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célula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es la unidad mas pequeña de vid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ntro de cada célula se encuentran los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cromosom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los se constan del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ADN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, en que está escrita toda la información genét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un pedazo de ADN que resulta en la formación de una determinada proteína se llama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gen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s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proteína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tienen distintas funciones en un organismo vivo (hormonas por ejempl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Arial"/>
              </a:rPr>
              <a:t>promotor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controla el trabajo de los genes y entonces la formación de las proteín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Y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qué es la ingeniería genética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997000"/>
            <a:ext cx="39276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jemplo 1: </a:t>
            </a: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se introducen los gen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de un pez en un tomat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17960" y="2997000"/>
            <a:ext cx="392760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jemplo 2: </a:t>
            </a: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se introducen los gen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ff00"/>
                </a:solidFill>
                <a:latin typeface="Arial"/>
              </a:rPr>
              <a:t>de un alacrán en un maíz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00280"/>
            <a:ext cx="792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una técnica, que permite introducir genes de micro-organismos, plantas y animales a otros organismos totalmente disti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2160360" cy="1595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195640" y="5589720"/>
            <a:ext cx="143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El tomate FlavrSavr™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03640" y="4149720"/>
            <a:ext cx="1335240" cy="1214280"/>
          </a:xfrm>
          <a:prstGeom prst="rect">
            <a:avLst/>
          </a:prstGeom>
          <a:ln w="28440">
            <a:solidFill>
              <a:srgbClr val="333333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020000" y="3933720"/>
            <a:ext cx="1290600" cy="1546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084720" y="3860640"/>
            <a:ext cx="1366920" cy="576360"/>
          </a:xfrm>
          <a:custGeom>
            <a:avLst/>
            <a:gdLst>
              <a:gd name="textAreaLeft" fmla="*/ 299880 w 1366920"/>
              <a:gd name="textAreaRight" fmla="*/ 930600 w 13669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77" hR="21600" stAng="10800000" swAng="5400000"/>
                <a:lnTo>
                  <a:pt x="9964" y="0"/>
                </a:lnTo>
                <a:arcTo wR="9477" hR="21600" stAng="-5400000" swAng="3068158"/>
                <a:lnTo>
                  <a:pt x="21058" y="14400"/>
                </a:lnTo>
                <a:lnTo>
                  <a:pt x="19197" y="21600"/>
                </a:lnTo>
                <a:lnTo>
                  <a:pt x="16251" y="14400"/>
                </a:lnTo>
                <a:lnTo>
                  <a:pt x="18411" y="14400"/>
                </a:lnTo>
                <a:arcTo wR="9477" hR="21600" stAng="-2331842" swAng="-3029393"/>
                <a:lnTo>
                  <a:pt x="9720" y="7"/>
                </a:lnTo>
                <a:arcTo wR="9477" hR="21600" stAng="-5438765" swAng="-5361235"/>
                <a:close/>
              </a:path>
              <a:path fill="darkenLess" w="21600" h="21600">
                <a:moveTo>
                  <a:pt x="0" y="21600"/>
                </a:moveTo>
                <a:arcTo wR="9477" hR="21600" stAng="10800000" swAng="5400000"/>
                <a:lnTo>
                  <a:pt x="9477" y="0"/>
                </a:lnTo>
                <a:arcTo wR="9477" hR="21600" stAng="-5400000" swAng="38765"/>
                <a:lnTo>
                  <a:pt x="9720" y="7"/>
                </a:lnTo>
                <a:arcTo wR="9477" hR="21600" stAng="-5438765" swAng="-5361235"/>
                <a:close/>
              </a:path>
            </a:pathLst>
          </a:custGeom>
          <a:solidFill>
            <a:srgbClr val="ff00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Y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qué es la ingeniería genética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cuando se añaden genes ajenos a un organismo, este adquiere las características del gen introducido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 “</a:t>
            </a:r>
            <a:r>
              <a:rPr b="0" lang="es-ES" sz="2600" spc="-1" strike="noStrike" u="sng">
                <a:solidFill>
                  <a:srgbClr val="ffff00"/>
                </a:solidFill>
                <a:uFillTx/>
                <a:latin typeface="Arial"/>
              </a:rPr>
              <a:t>organismo transgénico”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600" spc="-1" strike="noStrike" u="sng">
                <a:solidFill>
                  <a:srgbClr val="ffff00"/>
                </a:solidFill>
                <a:uFillTx/>
                <a:latin typeface="Arial"/>
              </a:rPr>
              <a:t>organismo genéticamente modificado”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 (OGM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de-DE" sz="2600" spc="-1" strike="noStrike" u="sng">
                <a:solidFill>
                  <a:srgbClr val="ffff00"/>
                </a:solidFill>
                <a:uFillTx/>
                <a:latin typeface="Arial"/>
              </a:rPr>
              <a:t>organismo vivo modificado</a:t>
            </a:r>
            <a:r>
              <a:rPr b="0" lang="de-DE" sz="2600" spc="-1" strike="noStrike">
                <a:solidFill>
                  <a:srgbClr val="ffff00"/>
                </a:solidFill>
                <a:latin typeface="Arial"/>
              </a:rPr>
              <a:t> “ (OVM)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Cómo funciona la ingeniería genética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Existen cuatro etapas principales en el proceso de ingeniería genética de cultiv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706752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Cómo funciona la ingeniería genética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17600" y="1773000"/>
            <a:ext cx="4226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odos los organismos tienen una molécula llamada ADN en cada una de sus célul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contiene la información de como producir todas las proteínas que el organismo necesitará durante toda su vid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3744720" cy="274320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0" lang="es-ES" sz="4800" spc="-1" strike="noStrike">
                <a:solidFill>
                  <a:srgbClr val="ff0000"/>
                </a:solidFill>
                <a:latin typeface="Arial Black"/>
              </a:rPr>
              <a:t>Qué son los Transgénicos?</a:t>
            </a:r>
            <a:br>
              <a:rPr sz="4800"/>
            </a:br>
            <a:endParaRPr b="1" lang="en-US" sz="48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62440" y="2492280"/>
            <a:ext cx="32446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ómo funciona la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ngeniería genética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1540080" cy="2681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1536480" cy="26798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554120" cy="2681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277164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ómo funciona la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ngeniería genética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50880" cy="26780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1544760" cy="268128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1533600" cy="26845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2771640" y="4005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24360" y="4005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ómo funciona la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ngeniería genética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2920" y="2492280"/>
            <a:ext cx="4806360" cy="3627360"/>
            <a:chOff x="412920" y="2492280"/>
            <a:chExt cx="4806360" cy="362736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567720" y="2492280"/>
              <a:ext cx="4651560" cy="3627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92" name=""/>
            <p:cNvSpPr/>
            <p:nvPr/>
          </p:nvSpPr>
          <p:spPr>
            <a:xfrm rot="1717800">
              <a:off x="323640" y="3896280"/>
              <a:ext cx="4390200" cy="748440"/>
            </a:xfrm>
            <a:custGeom>
              <a:avLst/>
              <a:gdLst>
                <a:gd name="textAreaLeft" fmla="*/ 864720 w 4390200"/>
                <a:gd name="textAreaRight" fmla="*/ 2890440 w 4390200"/>
                <a:gd name="textAreaTop" fmla="*/ 100080 h 748440"/>
                <a:gd name="textAreaBottom" fmla="*/ 648360 h 74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11" hR="21600" stAng="10800000" swAng="-5400000"/>
                  <a:lnTo>
                    <a:pt x="9966" y="21600"/>
                  </a:lnTo>
                  <a:arcTo wR="8511" hR="21600" stAng="5400000" swAng="-1426440"/>
                  <a:lnTo>
                    <a:pt x="19433" y="14400"/>
                  </a:lnTo>
                  <a:lnTo>
                    <a:pt x="17749" y="0"/>
                  </a:lnTo>
                  <a:lnTo>
                    <a:pt x="11730" y="14400"/>
                  </a:lnTo>
                  <a:lnTo>
                    <a:pt x="14854" y="14400"/>
                  </a:lnTo>
                  <a:arcTo wR="8511" hR="21600" stAng="3973560" swAng="1310274"/>
                  <a:lnTo>
                    <a:pt x="9238" y="21521"/>
                  </a:lnTo>
                  <a:arcTo wR="8511" hR="21600" stAng="5516166" swAng="5283834"/>
                  <a:close/>
                </a:path>
                <a:path fill="darkenLess" w="21600" h="21600">
                  <a:moveTo>
                    <a:pt x="0" y="0"/>
                  </a:moveTo>
                  <a:arcTo wR="8511" hR="21600" stAng="10800000" swAng="-5400000"/>
                  <a:lnTo>
                    <a:pt x="9966" y="21600"/>
                  </a:lnTo>
                  <a:arcTo wR="8511" hR="21600" stAng="5400000" swAng="116166"/>
                  <a:lnTo>
                    <a:pt x="9238" y="21521"/>
                  </a:lnTo>
                  <a:arcTo wR="8511" hR="21600" stAng="5516166" swAng="5283834"/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40120" y="5245560"/>
              <a:ext cx="2290680" cy="703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Arial"/>
                </a:rPr>
                <a:t>La Transforma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35640" y="2421000"/>
            <a:ext cx="3708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¿Cómo se puede expresar el gen desea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 utiliza un promotor vi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l virus se multiplica e infecta las células vecinas, las mismas que se siguen multiplica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se obtiene una combinación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virus/planta, bacteria/planta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o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virus/tomate/lengu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20000" y="1844640"/>
            <a:ext cx="531720" cy="79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ómo funciona la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ngeniería genética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1041480" cy="15825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1838160" cy="255096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508720" y="2565360"/>
            <a:ext cx="3263760" cy="341784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4643280" y="407664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4076640"/>
            <a:ext cx="647640" cy="34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85320 h 341280"/>
              <a:gd name="textAreaBottom" fmla="*/ 255960 h 34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Arial Black"/>
              </a:rPr>
              <a:t>¿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ómo funciona la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ngeniería genética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1976400" cy="4199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0" y="3716280"/>
            <a:ext cx="1152360" cy="503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2228760" cy="2606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06" name=""/>
          <p:cNvSpPr/>
          <p:nvPr/>
        </p:nvSpPr>
        <p:spPr>
          <a:xfrm flipH="1">
            <a:off x="3708000" y="1989000"/>
            <a:ext cx="647640" cy="432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3716280"/>
            <a:ext cx="1152360" cy="50328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811640" y="1989000"/>
            <a:ext cx="647640" cy="43214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44000" y="371628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Otra vez…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cuatro etapas principales en el proceso de ingeniería genéti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6840720" cy="3608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Problemas e incertidumbres</a:t>
            </a: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esorden en el ADN </a:t>
            </a:r>
            <a:r>
              <a:rPr b="0" lang="es-E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¿consecuencia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 se puede parar la expresión del gen introducido en la planta </a:t>
            </a:r>
            <a:r>
              <a:rPr b="0" lang="es-E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perdida de control en la expresión del ge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ecnológica desarrollada a nivel de tubo de ensayo </a:t>
            </a:r>
            <a:r>
              <a:rPr b="0" lang="es-E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altamente impredeci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islar a un gen no es fác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ff33"/>
                </a:solidFill>
                <a:latin typeface="Arial"/>
              </a:rPr>
              <a:t>ejemplo: El gen responsable del color rojo de las petunias esta uncido con la fertilidad de la fl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¿nuevas alergias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Problemas e incertidumbre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000" y="1904760"/>
            <a:ext cx="8459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jemplo: la hormona bovina de Monsanto (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bS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hormona proteinica natural que aumenta la producción de leche en el gan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la biotecnología ha logrado aislar el gen responsable de producir esta hormo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se ha encontrado que las vacas se debilitan y que se infecten con mastit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003640" y="4214880"/>
            <a:ext cx="273708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II. Los transgénicos y el medio ambient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muchas preguntas ecológicas sin respuesta referentes a la liberación de plantas y microorganismos transgénicos en el medio ambi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xiste una serie de fectos ecológicos impredecibles e irrevesibles en el caso de que se lleguen a manifestar negativam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mais" descr=""/>
          <p:cNvPicPr/>
          <p:nvPr/>
        </p:nvPicPr>
        <p:blipFill>
          <a:blip r:embed="rId1"/>
          <a:stretch/>
        </p:blipFill>
        <p:spPr>
          <a:xfrm>
            <a:off x="6477120" y="2133720"/>
            <a:ext cx="246060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6934320" y="3352680"/>
            <a:ext cx="1523880" cy="1338480"/>
            <a:chOff x="6934320" y="3352680"/>
            <a:chExt cx="1523880" cy="1338480"/>
          </a:xfrm>
        </p:grpSpPr>
        <p:sp>
          <p:nvSpPr>
            <p:cNvPr id="222" name=""/>
            <p:cNvSpPr/>
            <p:nvPr/>
          </p:nvSpPr>
          <p:spPr>
            <a:xfrm>
              <a:off x="7390440" y="3593880"/>
              <a:ext cx="615240" cy="859320"/>
            </a:xfrm>
            <a:custGeom>
              <a:avLst/>
              <a:gdLst/>
              <a:ahLst/>
              <a:rect l="l" t="t" r="r" b="b"/>
              <a:pathLst>
                <a:path w="407" h="634">
                  <a:moveTo>
                    <a:pt x="139" y="171"/>
                  </a:moveTo>
                  <a:lnTo>
                    <a:pt x="180" y="129"/>
                  </a:lnTo>
                  <a:lnTo>
                    <a:pt x="252" y="155"/>
                  </a:lnTo>
                  <a:lnTo>
                    <a:pt x="246" y="227"/>
                  </a:lnTo>
                  <a:lnTo>
                    <a:pt x="158" y="282"/>
                  </a:lnTo>
                  <a:lnTo>
                    <a:pt x="142" y="439"/>
                  </a:lnTo>
                  <a:lnTo>
                    <a:pt x="158" y="489"/>
                  </a:lnTo>
                  <a:lnTo>
                    <a:pt x="129" y="543"/>
                  </a:lnTo>
                  <a:lnTo>
                    <a:pt x="136" y="599"/>
                  </a:lnTo>
                  <a:lnTo>
                    <a:pt x="198" y="634"/>
                  </a:lnTo>
                  <a:lnTo>
                    <a:pt x="278" y="608"/>
                  </a:lnTo>
                  <a:lnTo>
                    <a:pt x="304" y="543"/>
                  </a:lnTo>
                  <a:lnTo>
                    <a:pt x="272" y="481"/>
                  </a:lnTo>
                  <a:lnTo>
                    <a:pt x="307" y="446"/>
                  </a:lnTo>
                  <a:lnTo>
                    <a:pt x="307" y="359"/>
                  </a:lnTo>
                  <a:lnTo>
                    <a:pt x="398" y="286"/>
                  </a:lnTo>
                  <a:lnTo>
                    <a:pt x="407" y="175"/>
                  </a:lnTo>
                  <a:lnTo>
                    <a:pt x="349" y="55"/>
                  </a:lnTo>
                  <a:lnTo>
                    <a:pt x="233" y="0"/>
                  </a:lnTo>
                  <a:lnTo>
                    <a:pt x="104" y="36"/>
                  </a:lnTo>
                  <a:lnTo>
                    <a:pt x="29" y="107"/>
                  </a:lnTo>
                  <a:lnTo>
                    <a:pt x="0" y="217"/>
                  </a:lnTo>
                  <a:lnTo>
                    <a:pt x="3" y="282"/>
                  </a:lnTo>
                  <a:lnTo>
                    <a:pt x="136" y="275"/>
                  </a:lnTo>
                  <a:lnTo>
                    <a:pt x="139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25360" y="3629160"/>
              <a:ext cx="546840" cy="599400"/>
            </a:xfrm>
            <a:custGeom>
              <a:avLst/>
              <a:gdLst/>
              <a:ahLst/>
              <a:rect l="l" t="t" r="r" b="b"/>
              <a:pathLst>
                <a:path w="362" h="442">
                  <a:moveTo>
                    <a:pt x="0" y="223"/>
                  </a:moveTo>
                  <a:lnTo>
                    <a:pt x="53" y="214"/>
                  </a:lnTo>
                  <a:lnTo>
                    <a:pt x="83" y="223"/>
                  </a:lnTo>
                  <a:lnTo>
                    <a:pt x="81" y="162"/>
                  </a:lnTo>
                  <a:lnTo>
                    <a:pt x="103" y="94"/>
                  </a:lnTo>
                  <a:lnTo>
                    <a:pt x="191" y="68"/>
                  </a:lnTo>
                  <a:lnTo>
                    <a:pt x="233" y="97"/>
                  </a:lnTo>
                  <a:lnTo>
                    <a:pt x="277" y="142"/>
                  </a:lnTo>
                  <a:lnTo>
                    <a:pt x="265" y="220"/>
                  </a:lnTo>
                  <a:lnTo>
                    <a:pt x="181" y="256"/>
                  </a:lnTo>
                  <a:lnTo>
                    <a:pt x="159" y="311"/>
                  </a:lnTo>
                  <a:lnTo>
                    <a:pt x="165" y="366"/>
                  </a:lnTo>
                  <a:lnTo>
                    <a:pt x="154" y="442"/>
                  </a:lnTo>
                  <a:lnTo>
                    <a:pt x="238" y="442"/>
                  </a:lnTo>
                  <a:lnTo>
                    <a:pt x="249" y="386"/>
                  </a:lnTo>
                  <a:lnTo>
                    <a:pt x="242" y="320"/>
                  </a:lnTo>
                  <a:lnTo>
                    <a:pt x="293" y="285"/>
                  </a:lnTo>
                  <a:lnTo>
                    <a:pt x="332" y="266"/>
                  </a:lnTo>
                  <a:lnTo>
                    <a:pt x="362" y="182"/>
                  </a:lnTo>
                  <a:lnTo>
                    <a:pt x="335" y="91"/>
                  </a:lnTo>
                  <a:lnTo>
                    <a:pt x="245" y="0"/>
                  </a:lnTo>
                  <a:lnTo>
                    <a:pt x="135" y="8"/>
                  </a:lnTo>
                  <a:lnTo>
                    <a:pt x="47" y="62"/>
                  </a:lnTo>
                  <a:lnTo>
                    <a:pt x="9" y="130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24800" y="4273200"/>
              <a:ext cx="176760" cy="13680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42" y="0"/>
                  </a:moveTo>
                  <a:lnTo>
                    <a:pt x="8" y="19"/>
                  </a:lnTo>
                  <a:lnTo>
                    <a:pt x="0" y="68"/>
                  </a:lnTo>
                  <a:lnTo>
                    <a:pt x="26" y="101"/>
                  </a:lnTo>
                  <a:lnTo>
                    <a:pt x="91" y="101"/>
                  </a:lnTo>
                  <a:lnTo>
                    <a:pt x="117" y="61"/>
                  </a:lnTo>
                  <a:lnTo>
                    <a:pt x="94" y="1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34320" y="3352680"/>
              <a:ext cx="1523880" cy="1338480"/>
            </a:xfrm>
            <a:custGeom>
              <a:avLst/>
              <a:gdLst/>
              <a:ahLst/>
              <a:rect l="l" t="t" r="r" b="b"/>
              <a:pathLst>
                <a:path w="1008" h="987">
                  <a:moveTo>
                    <a:pt x="628" y="0"/>
                  </a:moveTo>
                  <a:lnTo>
                    <a:pt x="428" y="3"/>
                  </a:lnTo>
                  <a:lnTo>
                    <a:pt x="276" y="52"/>
                  </a:lnTo>
                  <a:lnTo>
                    <a:pt x="120" y="153"/>
                  </a:lnTo>
                  <a:lnTo>
                    <a:pt x="48" y="298"/>
                  </a:lnTo>
                  <a:lnTo>
                    <a:pt x="16" y="447"/>
                  </a:lnTo>
                  <a:lnTo>
                    <a:pt x="0" y="596"/>
                  </a:lnTo>
                  <a:lnTo>
                    <a:pt x="72" y="705"/>
                  </a:lnTo>
                  <a:lnTo>
                    <a:pt x="159" y="850"/>
                  </a:lnTo>
                  <a:lnTo>
                    <a:pt x="364" y="967"/>
                  </a:lnTo>
                  <a:lnTo>
                    <a:pt x="560" y="987"/>
                  </a:lnTo>
                  <a:lnTo>
                    <a:pt x="697" y="947"/>
                  </a:lnTo>
                  <a:lnTo>
                    <a:pt x="781" y="899"/>
                  </a:lnTo>
                  <a:lnTo>
                    <a:pt x="871" y="866"/>
                  </a:lnTo>
                  <a:lnTo>
                    <a:pt x="904" y="786"/>
                  </a:lnTo>
                  <a:lnTo>
                    <a:pt x="982" y="659"/>
                  </a:lnTo>
                  <a:lnTo>
                    <a:pt x="1008" y="508"/>
                  </a:lnTo>
                  <a:lnTo>
                    <a:pt x="986" y="336"/>
                  </a:lnTo>
                  <a:lnTo>
                    <a:pt x="923" y="166"/>
                  </a:lnTo>
                  <a:lnTo>
                    <a:pt x="839" y="100"/>
                  </a:lnTo>
                  <a:lnTo>
                    <a:pt x="735" y="16"/>
                  </a:lnTo>
                  <a:lnTo>
                    <a:pt x="681" y="153"/>
                  </a:lnTo>
                  <a:lnTo>
                    <a:pt x="812" y="249"/>
                  </a:lnTo>
                  <a:lnTo>
                    <a:pt x="864" y="330"/>
                  </a:lnTo>
                  <a:lnTo>
                    <a:pt x="895" y="442"/>
                  </a:lnTo>
                  <a:lnTo>
                    <a:pt x="858" y="624"/>
                  </a:lnTo>
                  <a:lnTo>
                    <a:pt x="781" y="756"/>
                  </a:lnTo>
                  <a:lnTo>
                    <a:pt x="703" y="799"/>
                  </a:lnTo>
                  <a:lnTo>
                    <a:pt x="615" y="841"/>
                  </a:lnTo>
                  <a:lnTo>
                    <a:pt x="474" y="857"/>
                  </a:lnTo>
                  <a:lnTo>
                    <a:pt x="318" y="825"/>
                  </a:lnTo>
                  <a:lnTo>
                    <a:pt x="195" y="689"/>
                  </a:lnTo>
                  <a:lnTo>
                    <a:pt x="139" y="598"/>
                  </a:lnTo>
                  <a:lnTo>
                    <a:pt x="136" y="456"/>
                  </a:lnTo>
                  <a:lnTo>
                    <a:pt x="166" y="336"/>
                  </a:lnTo>
                  <a:lnTo>
                    <a:pt x="246" y="236"/>
                  </a:lnTo>
                  <a:lnTo>
                    <a:pt x="291" y="172"/>
                  </a:lnTo>
                  <a:lnTo>
                    <a:pt x="399" y="145"/>
                  </a:lnTo>
                  <a:lnTo>
                    <a:pt x="515" y="104"/>
                  </a:lnTo>
                  <a:lnTo>
                    <a:pt x="681" y="153"/>
                  </a:lnTo>
                  <a:lnTo>
                    <a:pt x="735" y="16"/>
                  </a:lnTo>
                  <a:lnTo>
                    <a:pt x="6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77520" y="3373920"/>
              <a:ext cx="1442160" cy="1285920"/>
            </a:xfrm>
            <a:custGeom>
              <a:avLst/>
              <a:gdLst/>
              <a:ahLst/>
              <a:rect l="l" t="t" r="r" b="b"/>
              <a:pathLst>
                <a:path w="954" h="948">
                  <a:moveTo>
                    <a:pt x="516" y="68"/>
                  </a:moveTo>
                  <a:lnTo>
                    <a:pt x="405" y="68"/>
                  </a:lnTo>
                  <a:lnTo>
                    <a:pt x="244" y="132"/>
                  </a:lnTo>
                  <a:lnTo>
                    <a:pt x="143" y="244"/>
                  </a:lnTo>
                  <a:lnTo>
                    <a:pt x="94" y="386"/>
                  </a:lnTo>
                  <a:lnTo>
                    <a:pt x="65" y="502"/>
                  </a:lnTo>
                  <a:lnTo>
                    <a:pt x="130" y="683"/>
                  </a:lnTo>
                  <a:lnTo>
                    <a:pt x="207" y="747"/>
                  </a:lnTo>
                  <a:lnTo>
                    <a:pt x="260" y="815"/>
                  </a:lnTo>
                  <a:lnTo>
                    <a:pt x="380" y="855"/>
                  </a:lnTo>
                  <a:lnTo>
                    <a:pt x="493" y="880"/>
                  </a:lnTo>
                  <a:lnTo>
                    <a:pt x="713" y="805"/>
                  </a:lnTo>
                  <a:lnTo>
                    <a:pt x="842" y="676"/>
                  </a:lnTo>
                  <a:lnTo>
                    <a:pt x="891" y="499"/>
                  </a:lnTo>
                  <a:lnTo>
                    <a:pt x="891" y="350"/>
                  </a:lnTo>
                  <a:lnTo>
                    <a:pt x="829" y="250"/>
                  </a:lnTo>
                  <a:lnTo>
                    <a:pt x="743" y="140"/>
                  </a:lnTo>
                  <a:lnTo>
                    <a:pt x="516" y="68"/>
                  </a:lnTo>
                  <a:lnTo>
                    <a:pt x="505" y="0"/>
                  </a:lnTo>
                  <a:lnTo>
                    <a:pt x="608" y="16"/>
                  </a:lnTo>
                  <a:lnTo>
                    <a:pt x="746" y="56"/>
                  </a:lnTo>
                  <a:lnTo>
                    <a:pt x="816" y="138"/>
                  </a:lnTo>
                  <a:lnTo>
                    <a:pt x="907" y="230"/>
                  </a:lnTo>
                  <a:lnTo>
                    <a:pt x="954" y="431"/>
                  </a:lnTo>
                  <a:lnTo>
                    <a:pt x="946" y="576"/>
                  </a:lnTo>
                  <a:lnTo>
                    <a:pt x="885" y="705"/>
                  </a:lnTo>
                  <a:lnTo>
                    <a:pt x="797" y="818"/>
                  </a:lnTo>
                  <a:lnTo>
                    <a:pt x="606" y="919"/>
                  </a:lnTo>
                  <a:lnTo>
                    <a:pt x="454" y="948"/>
                  </a:lnTo>
                  <a:lnTo>
                    <a:pt x="289" y="908"/>
                  </a:lnTo>
                  <a:lnTo>
                    <a:pt x="110" y="757"/>
                  </a:lnTo>
                  <a:lnTo>
                    <a:pt x="0" y="505"/>
                  </a:lnTo>
                  <a:lnTo>
                    <a:pt x="43" y="347"/>
                  </a:lnTo>
                  <a:lnTo>
                    <a:pt x="72" y="204"/>
                  </a:lnTo>
                  <a:lnTo>
                    <a:pt x="184" y="104"/>
                  </a:lnTo>
                  <a:lnTo>
                    <a:pt x="309" y="32"/>
                  </a:lnTo>
                  <a:lnTo>
                    <a:pt x="505" y="0"/>
                  </a:lnTo>
                  <a:lnTo>
                    <a:pt x="516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mpactos en el Medio Ambient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Erosión Genétic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Resistencia a herbicidas e insecticid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Cruzamiento Horizontal o Polinización cruzad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Contaminación de especies silvest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6172200" y="1676520"/>
            <a:ext cx="2742840" cy="4266720"/>
            <a:chOff x="6172200" y="1676520"/>
            <a:chExt cx="2742840" cy="4266720"/>
          </a:xfrm>
        </p:grpSpPr>
        <p:pic>
          <p:nvPicPr>
            <p:cNvPr id="230" name="getreide_300" descr=""/>
            <p:cNvPicPr/>
            <p:nvPr/>
          </p:nvPicPr>
          <p:blipFill>
            <a:blip r:embed="rId1"/>
            <a:stretch/>
          </p:blipFill>
          <p:spPr>
            <a:xfrm>
              <a:off x="6172200" y="4462920"/>
              <a:ext cx="2742840" cy="14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agroecología" descr=""/>
            <p:cNvPicPr/>
            <p:nvPr/>
          </p:nvPicPr>
          <p:blipFill>
            <a:blip r:embed="rId2"/>
            <a:stretch/>
          </p:blipFill>
          <p:spPr>
            <a:xfrm>
              <a:off x="6172200" y="1676520"/>
              <a:ext cx="2742840" cy="188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MAIZ" descr=""/>
            <p:cNvPicPr/>
            <p:nvPr/>
          </p:nvPicPr>
          <p:blipFill>
            <a:blip r:embed="rId3"/>
            <a:stretch/>
          </p:blipFill>
          <p:spPr>
            <a:xfrm>
              <a:off x="6172200" y="3153240"/>
              <a:ext cx="179028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Maleza" descr=""/>
            <p:cNvPicPr/>
            <p:nvPr/>
          </p:nvPicPr>
          <p:blipFill>
            <a:blip r:embed="rId4"/>
            <a:stretch/>
          </p:blipFill>
          <p:spPr>
            <a:xfrm>
              <a:off x="7817760" y="3481560"/>
              <a:ext cx="1094760" cy="12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semillas%20maiz" descr=""/>
            <p:cNvPicPr/>
            <p:nvPr/>
          </p:nvPicPr>
          <p:blipFill>
            <a:blip r:embed="rId5"/>
            <a:stretch/>
          </p:blipFill>
          <p:spPr>
            <a:xfrm>
              <a:off x="7554960" y="4712400"/>
              <a:ext cx="628200" cy="8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frijol%20semillas" descr=""/>
            <p:cNvPicPr/>
            <p:nvPr/>
          </p:nvPicPr>
          <p:blipFill>
            <a:blip r:embed="rId6"/>
            <a:stretch/>
          </p:blipFill>
          <p:spPr>
            <a:xfrm>
              <a:off x="7909200" y="1676520"/>
              <a:ext cx="10058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72200" y="1676520"/>
              <a:ext cx="2742840" cy="4266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Introducción: La Revolución Verde y la Ingeniería Genética en la Agricultur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¿Qué significa „Transgénico“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Transgénicos y el Medio Ambi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arco Regulatori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Transgénicos y la Salud Huma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oberanía Alimenta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Transgénicos y la Economí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1. Erosión genétic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de-DE" sz="2800" spc="-1" strike="noStrike">
                <a:solidFill>
                  <a:srgbClr val="ffff00"/>
                </a:solidFill>
                <a:latin typeface="Arial"/>
              </a:rPr>
              <a:t>Pérdida de diversidad genética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Introducción de nuevas espec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9ff66"/>
                </a:solidFill>
                <a:latin typeface="Arial"/>
              </a:rPr>
              <a:t>La nueva semilla producida por bioingeniería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9ff66"/>
                </a:solidFill>
                <a:latin typeface="Arial"/>
              </a:rPr>
              <a:t>remplaza a las antiguas variedades tradicionale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99ff66"/>
                </a:solidFill>
                <a:latin typeface="Arial"/>
              </a:rPr>
              <a:t>y a sus parientes silvestr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Transformación de las costumbres alimentarias y prácticas cultur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Cultivos transgénicos favorecen los </a:t>
            </a:r>
            <a:r>
              <a:rPr b="0" lang="de-DE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monocul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Contaminación del maíz en Méxi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9" name="saco%20de%20semillas" descr=""/>
          <p:cNvPicPr/>
          <p:nvPr/>
        </p:nvPicPr>
        <p:blipFill>
          <a:blip r:embed="rId2"/>
          <a:stretch/>
        </p:blipFill>
        <p:spPr>
          <a:xfrm>
            <a:off x="7238880" y="2529000"/>
            <a:ext cx="175284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8763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2. Resistencia a herbicidas e insecticidas 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cremento del uso de pesticid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sarrollo de supermalez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volución de razas de insectos res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umento del costo de producció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ntaminación ambien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019920" y="2209680"/>
            <a:ext cx="2666880" cy="3276720"/>
            <a:chOff x="6019920" y="2209680"/>
            <a:chExt cx="2666880" cy="3276720"/>
          </a:xfrm>
        </p:grpSpPr>
        <p:pic>
          <p:nvPicPr>
            <p:cNvPr id="243" name="gentechnik-flugzeug" descr=""/>
            <p:cNvPicPr/>
            <p:nvPr/>
          </p:nvPicPr>
          <p:blipFill>
            <a:blip r:embed="rId1"/>
            <a:stretch/>
          </p:blipFill>
          <p:spPr>
            <a:xfrm>
              <a:off x="6019920" y="2211480"/>
              <a:ext cx="266688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fumigacion" descr=""/>
            <p:cNvPicPr/>
            <p:nvPr/>
          </p:nvPicPr>
          <p:blipFill>
            <a:blip r:embed="rId2"/>
            <a:stretch/>
          </p:blipFill>
          <p:spPr>
            <a:xfrm>
              <a:off x="6019920" y="3505320"/>
              <a:ext cx="26668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019920" y="2209680"/>
              <a:ext cx="2666880" cy="32767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3. Cruzamiento horizontal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4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agricultores vecinos de un cultivo transgénico pueden terminar con poblaciones de insectos res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uso masivo cultivos </a:t>
            </a:r>
            <a:r>
              <a:rPr b="0" lang="es-ES" sz="2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Bt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afecta a los organismos que no son objetivo y los procesos ecológ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ntrevista con </a:t>
            </a:r>
            <a:r>
              <a:rPr b="0" lang="es-ES" sz="2800" spc="-1" strike="noStrike">
                <a:solidFill>
                  <a:srgbClr val="99ff66"/>
                </a:solidFill>
                <a:latin typeface="Arial"/>
              </a:rPr>
              <a:t>Percy Schmeis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8" name="CANOLA" descr=""/>
          <p:cNvPicPr/>
          <p:nvPr/>
        </p:nvPicPr>
        <p:blipFill>
          <a:blip r:embed="rId2"/>
          <a:stretch/>
        </p:blipFill>
        <p:spPr>
          <a:xfrm>
            <a:off x="6400800" y="2514600"/>
            <a:ext cx="2286000" cy="27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4. Contaminación de especies silvestre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s liberaciones a gran escala                       de cultivos transgénicos pueden                    provocar el flujo de transgenes                       de estos cultivos a otras plantas           silvestres que pueden                   transformarse en malez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arios cultivos transgénicos son sembrados en proximidad de sus parientes sexualmente compati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1" name="TRIGO4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236232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V. Marco Regulatorio 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tuación en                                       El Salvado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arco Regulatorio                  N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Marco Regulatorio             Internacional                                        Convenios y Tratados Internaciona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181480" y="2133720"/>
            <a:ext cx="3657240" cy="2895120"/>
            <a:chOff x="5181480" y="2133720"/>
            <a:chExt cx="3657240" cy="2895120"/>
          </a:xfrm>
        </p:grpSpPr>
        <p:pic>
          <p:nvPicPr>
            <p:cNvPr id="255" name="el%20salvador" descr=""/>
            <p:cNvPicPr/>
            <p:nvPr/>
          </p:nvPicPr>
          <p:blipFill>
            <a:blip r:embed="rId1"/>
            <a:stretch/>
          </p:blipFill>
          <p:spPr>
            <a:xfrm>
              <a:off x="5181480" y="2133720"/>
              <a:ext cx="3657240" cy="28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El%20Salvador" descr=""/>
            <p:cNvPicPr/>
            <p:nvPr/>
          </p:nvPicPr>
          <p:blipFill>
            <a:blip r:embed="rId2"/>
            <a:stretch/>
          </p:blipFill>
          <p:spPr>
            <a:xfrm>
              <a:off x="5181480" y="4262760"/>
              <a:ext cx="829800" cy="75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1. El Salvador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sencia de transgénicos es una realida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(semilla de </a:t>
            </a:r>
            <a:r>
              <a:rPr b="0" i="1" lang="de-DE" sz="2000" spc="-1" strike="noStrike">
                <a:solidFill>
                  <a:srgbClr val="99ff66"/>
                </a:solidFill>
                <a:latin typeface="Arial"/>
              </a:rPr>
              <a:t>maíz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, harina de </a:t>
            </a:r>
            <a:r>
              <a:rPr b="0" i="1" lang="de-DE" sz="2000" spc="-1" strike="noStrike">
                <a:solidFill>
                  <a:srgbClr val="99ff66"/>
                </a:solidFill>
                <a:latin typeface="Arial"/>
              </a:rPr>
              <a:t>soya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, harina de maíz, sopas instantáneas, galletas, pan, tostadas, etc.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NO hay una normativa sobre biosegurida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NO hay investigación científica sobre el t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alta de informació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iesgos de la salud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año ambient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105520" y="4373640"/>
            <a:ext cx="3200400" cy="2179440"/>
            <a:chOff x="5105520" y="4373640"/>
            <a:chExt cx="3200400" cy="2179440"/>
          </a:xfrm>
        </p:grpSpPr>
        <p:pic>
          <p:nvPicPr>
            <p:cNvPr id="260" name="diferentes%20semillas" descr=""/>
            <p:cNvPicPr/>
            <p:nvPr/>
          </p:nvPicPr>
          <p:blipFill>
            <a:blip r:embed="rId1"/>
            <a:stretch/>
          </p:blipFill>
          <p:spPr>
            <a:xfrm>
              <a:off x="5105520" y="4373640"/>
              <a:ext cx="3200400" cy="217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frutas%20y%20adn" descr=""/>
            <p:cNvPicPr/>
            <p:nvPr/>
          </p:nvPicPr>
          <p:blipFill>
            <a:blip r:embed="rId2"/>
            <a:stretch/>
          </p:blipFill>
          <p:spPr>
            <a:xfrm>
              <a:off x="5715000" y="4952880"/>
              <a:ext cx="1981080" cy="99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2. Marco Regulatorio Nacional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y del medio ambie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Principio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 de 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precaución</a:t>
            </a:r>
            <a:r>
              <a:rPr b="0" lang="de-DE" sz="2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(Art. 2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Estudio ambiental (Art. 21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y de semill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Art. 30 „se prohibe la importación investigación, producción y comercialización de semilla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transgénicas“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y de protección al consumid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Derecho a estar protegido e informado frente a los riesgos contra la vida y la salud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Etiquetado (Art. 28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362640" y="1905120"/>
            <a:ext cx="2552760" cy="3809880"/>
            <a:chOff x="6362640" y="1905120"/>
            <a:chExt cx="2552760" cy="3809880"/>
          </a:xfrm>
        </p:grpSpPr>
        <p:pic>
          <p:nvPicPr>
            <p:cNvPr id="265" name="campo%20de%20maiz" descr=""/>
            <p:cNvPicPr/>
            <p:nvPr/>
          </p:nvPicPr>
          <p:blipFill>
            <a:blip r:embed="rId4"/>
            <a:stretch/>
          </p:blipFill>
          <p:spPr>
            <a:xfrm>
              <a:off x="6362640" y="1905120"/>
              <a:ext cx="2552760" cy="18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emillas%20maiz" descr=""/>
            <p:cNvPicPr/>
            <p:nvPr/>
          </p:nvPicPr>
          <p:blipFill>
            <a:blip r:embed="rId5"/>
            <a:stretch/>
          </p:blipFill>
          <p:spPr>
            <a:xfrm>
              <a:off x="7760160" y="3962520"/>
              <a:ext cx="11188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ódigo de Salu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No considera los alimentos derivados de la biotecnología y sus efectos en la salud human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entro Nacional de Ciencia y Tecnologí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No existe ninguna iniciativa de elaboración de normas técnicas para el control de los alimentos transgénico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opuesta de Ley de Bioseguridad de OG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Enfoque preventivo a través de mecanismos de contro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Además de la existencia de leyes es necesario que las instituciones estatales promuevan y vigilen el cumplimiento de las mism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3. Marco Regulatorio Internacional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nvenio sobre Diversidad Biológica de las Naciones Unid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Cumbre de la Tierra (Río de Janeiro 1992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Ratificado por El Salvador el 8 de septiembre de 1994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Metas para un desarrollo sostenible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Conservación de la biodiversidad biológ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Utilización sostenible de sus componen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Distribución justa de los beneficio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El convenio establece en muchos artículos la importancia de realizar esfuerzos tendientes a controlar la aplicación de la ingeniería genétic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0" name="naciones-unidas" descr=""/>
          <p:cNvPicPr/>
          <p:nvPr/>
        </p:nvPicPr>
        <p:blipFill>
          <a:blip r:embed="rId1"/>
          <a:stretch/>
        </p:blipFill>
        <p:spPr>
          <a:xfrm>
            <a:off x="6541920" y="3733920"/>
            <a:ext cx="1611360" cy="16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artagena" descr=""/>
          <p:cNvPicPr/>
          <p:nvPr/>
        </p:nvPicPr>
        <p:blipFill>
          <a:blip r:embed="rId1"/>
          <a:stretch/>
        </p:blipFill>
        <p:spPr>
          <a:xfrm>
            <a:off x="6867360" y="304920"/>
            <a:ext cx="2136960" cy="3504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otocolo de Cartagena sob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bioseguridad en la Biotecnolgí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Montreal, Canadá enero de 2000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Ratificado por El Salvador el 23 de abril de 2003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Marco normativo internacional de protección del comercio y medio ambiente en relación a los productos transgénicos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Reglas vinculantes con el derecho internacional sobre el transporte y movilización transfonterizo con OM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Participación social y consulta con el público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Los convenios y tratados internacionales ratificados son leyes de la Repúbli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. La Revolución Verd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esde el siglo 18 habían intentos de aumentar la productividad de la tierr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 partir de 1944 se habla sobre 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volución Ver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un proyecto internacional para convertir los países menos desarrollados en agriculturas iguales como los del Nor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ecían que era “la clave para terminar con el hambre en el mundo por la multiplicación de la cosecha”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64000" y="4869000"/>
            <a:ext cx="2089080" cy="1672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V. 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Mit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1: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“los alimentos transgénicos son la solución del hambre en el mundo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2160720" cy="1773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364000" y="4076640"/>
            <a:ext cx="2067120" cy="1257480"/>
          </a:xfrm>
          <a:prstGeom prst="wedgeEllipseCallout">
            <a:avLst>
              <a:gd name="adj1" fmla="val -98388"/>
              <a:gd name="adj2" fmla="val 17296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¿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Es cier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87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“ </a:t>
            </a: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Podemos producir suficientes alimentos para nutrir a 12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biliones personas (un tercio más de la población actual); para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00"/>
                </a:solidFill>
                <a:uFillTx/>
                <a:latin typeface="Arial"/>
              </a:rPr>
              <a:t>dar a cada persona cada día el equivalente de 2.700 calorías.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FAO </a:t>
            </a:r>
            <a:r>
              <a:rPr b="0" i="1" lang="es-ES" sz="1800" spc="-1" strike="noStrike">
                <a:solidFill>
                  <a:srgbClr val="ffff00"/>
                </a:solidFill>
                <a:latin typeface="Arial"/>
              </a:rPr>
              <a:t>(Organisación de las Naciones Unidas para la agricultura y la alimentació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l problema del hambre no es debido a la falta de alimentos sino a la distribución de los mismo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¡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mpresas transnacionales solo quieren fortalecer su negocio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877080" y="5445000"/>
            <a:ext cx="965160" cy="1122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80" name=""/>
          <p:cNvSpPr/>
          <p:nvPr/>
        </p:nvSpPr>
        <p:spPr>
          <a:xfrm rot="5400000">
            <a:off x="5807880" y="557604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Mito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2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a agricultura basada en modificaciones genéticas disminuye el uso de agroquímicos y es por lo tanto más sana a la salud humana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4221000"/>
            <a:ext cx="1873080" cy="1440000"/>
          </a:xfrm>
          <a:prstGeom prst="cloudCallout">
            <a:avLst>
              <a:gd name="adj1" fmla="val -111439"/>
              <a:gd name="adj2" fmla="val 5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¿Se lo puede cre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124000" y="4221000"/>
            <a:ext cx="21607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a verdad: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l uso de químicos se aumentó en campos con plantas modificadas con resistencia a herbicidas generando supermalezas y plagas de insectos resistente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1873440" cy="180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Mito 3 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a Biotecnología conducirá a la conservación de la biodiversidad.”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268360" y="4221000"/>
            <a:ext cx="5400720" cy="1773360"/>
            <a:chOff x="2268360" y="4221000"/>
            <a:chExt cx="5400720" cy="1773360"/>
          </a:xfrm>
        </p:grpSpPr>
        <p:sp>
          <p:nvSpPr>
            <p:cNvPr id="291" name=""/>
            <p:cNvSpPr/>
            <p:nvPr/>
          </p:nvSpPr>
          <p:spPr>
            <a:xfrm>
              <a:off x="5796000" y="4221000"/>
              <a:ext cx="1873080" cy="1440000"/>
            </a:xfrm>
            <a:prstGeom prst="cloudCallout">
              <a:avLst>
                <a:gd name="adj1" fmla="val -111439"/>
                <a:gd name="adj2" fmla="val 55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6000" spc="-1" strike="noStrike">
                  <a:solidFill>
                    <a:srgbClr val="000099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2268360" y="4221000"/>
              <a:ext cx="2160720" cy="1773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4149720"/>
            <a:ext cx="3170160" cy="234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755640" y="1844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la verdad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transnacionales están creando amplios mercados internacionales para la semilla de un solo producto, favoreciendo los monocultivos que se caracterizan por niveles peligrosos de homogene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genética, vulnerabilidad de los sistemas agrícolas y erosión genét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Los impactos</a:t>
            </a:r>
            <a:br>
              <a:rPr sz="4400"/>
            </a:br>
            <a:r>
              <a:rPr b="1" lang="es-ES" sz="4400" spc="-1" strike="noStrike">
                <a:solidFill>
                  <a:srgbClr val="ff0000"/>
                </a:solidFill>
                <a:latin typeface="Arial Black"/>
              </a:rPr>
              <a:t>en la salud human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nvestigaciones independientes han mostrado que los OGM pueden causar…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Resistencia a antibiót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Danos inmunológ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lerg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Cáncer de mama, próst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y col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372360" y="3357720"/>
            <a:ext cx="2381040" cy="24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VI. Soberania Alimentari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ioridad a la producción de alimentos para mercados loc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cios justos para los producto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1" name="VERDURAS" descr=""/>
          <p:cNvPicPr/>
          <p:nvPr/>
        </p:nvPicPr>
        <p:blipFill>
          <a:blip r:embed="rId1"/>
          <a:stretch/>
        </p:blipFill>
        <p:spPr>
          <a:xfrm>
            <a:off x="6972480" y="2057400"/>
            <a:ext cx="1942920" cy="1981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38080" y="188748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Derecho a una alimentación sana, nutritiva y culturalemente apropiada, y a producir los alimentos para mantenerse a sí mismos y a sus sociedades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econocimiento y promoción del papel de la mujer en la producción alimenta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cceso equitativo y control de los recursos productivos por parte d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a comunida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otección de las semilla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rioll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versión pública par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omentar la actividad productiv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 las familias y comunida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86400" y="3352680"/>
            <a:ext cx="3321000" cy="2370240"/>
            <a:chOff x="5486400" y="3352680"/>
            <a:chExt cx="3321000" cy="2370240"/>
          </a:xfrm>
        </p:grpSpPr>
        <p:pic>
          <p:nvPicPr>
            <p:cNvPr id="306" name="alimentos" descr=""/>
            <p:cNvPicPr/>
            <p:nvPr/>
          </p:nvPicPr>
          <p:blipFill>
            <a:blip r:embed="rId1"/>
            <a:stretch/>
          </p:blipFill>
          <p:spPr>
            <a:xfrm>
              <a:off x="5486400" y="3352680"/>
              <a:ext cx="332100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458200" y="5333760"/>
              <a:ext cx="76320" cy="763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VII. Los transgénicos 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y la economí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as empresas que manejan la biotecnología aseguran que los cutivos transgénicos serán la solución para el hambre del mund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l hambre mundial no es un problema de producción de alimentos sino de su justa distribución.  Las empresas buscan el control del comercio de alimentos y aumentar sus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858000" y="2286000"/>
            <a:ext cx="1981080" cy="3124080"/>
            <a:chOff x="6858000" y="2286000"/>
            <a:chExt cx="1981080" cy="3124080"/>
          </a:xfrm>
        </p:grpSpPr>
        <p:pic>
          <p:nvPicPr>
            <p:cNvPr id="311" name="HAMBRE-" descr=""/>
            <p:cNvPicPr/>
            <p:nvPr/>
          </p:nvPicPr>
          <p:blipFill>
            <a:blip r:embed="rId1"/>
            <a:stretch/>
          </p:blipFill>
          <p:spPr>
            <a:xfrm>
              <a:off x="6858000" y="3857760"/>
              <a:ext cx="1981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HAMBRE" descr=""/>
            <p:cNvPicPr/>
            <p:nvPr/>
          </p:nvPicPr>
          <p:blipFill>
            <a:blip r:embed="rId2"/>
            <a:stretch/>
          </p:blipFill>
          <p:spPr>
            <a:xfrm>
              <a:off x="7086600" y="2286000"/>
              <a:ext cx="1714680" cy="1298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I. La Revolución Verd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6121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se sustentó en la mejora de tres cereales clave en la alimentación humana: </a:t>
            </a:r>
            <a:r>
              <a:rPr b="1" lang="es-ES" sz="2200" spc="-1" strike="noStrike">
                <a:solidFill>
                  <a:srgbClr val="ffff00"/>
                </a:solidFill>
                <a:latin typeface="Arial"/>
              </a:rPr>
              <a:t>trigo, arroz y maíz.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ff00"/>
                </a:solidFill>
                <a:latin typeface="Arial"/>
              </a:rPr>
              <a:t>Los híbridos dobles (procedentes del cruce de dos híbridos sencillos) y la esterilidad masculina (que eliminó el engorro de cortar a mano la flor para evitar la polinización autógama) facilitaron la obtención y abarataron los costes. 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ff00"/>
                </a:solidFill>
                <a:latin typeface="Arial"/>
              </a:rPr>
              <a:t>son de alto rendimiento, pero el agricultor no puede aprovechar los granos de las sucesivas generaciones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SV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SV" sz="2200" spc="-1" strike="noStrike">
                <a:solidFill>
                  <a:srgbClr val="ffff00"/>
                </a:solidFill>
                <a:latin typeface="Arial"/>
              </a:rPr>
              <a:t>hay que comprar granos híbridos en cada estación de siembra. </a:t>
            </a:r>
            <a:endParaRPr b="0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112600">
            <a:off x="6443640" y="1989000"/>
            <a:ext cx="1123920" cy="1368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1302600">
            <a:off x="7667280" y="3141720"/>
            <a:ext cx="1093680" cy="1457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20862600">
            <a:off x="6516360" y="5013360"/>
            <a:ext cx="1811160" cy="1206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mplicaciones en el ámbito socioeconómico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ependencia tecnológica y económic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Las empresas prohíben a los campesinos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reproducir, intercambiar o almacenar semill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Privatización del patrimonio genétic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Paten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Bioprospección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 o </a:t>
            </a:r>
            <a:r>
              <a:rPr b="0" lang="de-DE" sz="20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Biopiraterí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Destrucción de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conocimientos tradicional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29400" y="2514600"/>
            <a:ext cx="2362320" cy="2992320"/>
            <a:chOff x="6629400" y="2514600"/>
            <a:chExt cx="2362320" cy="2992320"/>
          </a:xfrm>
        </p:grpSpPr>
        <p:pic>
          <p:nvPicPr>
            <p:cNvPr id="316" name="Chicha" descr=""/>
            <p:cNvPicPr/>
            <p:nvPr/>
          </p:nvPicPr>
          <p:blipFill>
            <a:blip r:embed="rId5"/>
            <a:stretch/>
          </p:blipFill>
          <p:spPr>
            <a:xfrm>
              <a:off x="6629400" y="3886200"/>
              <a:ext cx="2362320" cy="16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semillas%20frijol" descr=""/>
            <p:cNvPicPr/>
            <p:nvPr/>
          </p:nvPicPr>
          <p:blipFill>
            <a:blip r:embed="rId6"/>
            <a:stretch/>
          </p:blipFill>
          <p:spPr>
            <a:xfrm>
              <a:off x="7391520" y="2514600"/>
              <a:ext cx="68580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strucción de la economía campesi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Consecuencias legales y económic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nformación de monopoli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Toda la cadena alimenticia es propiedad privad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Debilitamiento de las exportacio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Sustitución de importacion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omento del contrabando de OGM y agroquím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202520" y="2660760"/>
            <a:ext cx="1636560" cy="2368440"/>
            <a:chOff x="7202520" y="2660760"/>
            <a:chExt cx="1636560" cy="2368440"/>
          </a:xfrm>
        </p:grpSpPr>
        <p:pic>
          <p:nvPicPr>
            <p:cNvPr id="321" name="monopolio" descr=""/>
            <p:cNvPicPr/>
            <p:nvPr/>
          </p:nvPicPr>
          <p:blipFill>
            <a:blip r:embed="rId1"/>
            <a:stretch/>
          </p:blipFill>
          <p:spPr>
            <a:xfrm>
              <a:off x="7202520" y="2660760"/>
              <a:ext cx="1636560" cy="23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543800" y="46418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81880" y="4413240"/>
              <a:ext cx="228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58200" y="4413240"/>
              <a:ext cx="30492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15200" y="4579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Book Antiqua"/>
                </a:rPr>
                <a:t>Monopoli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Tratados de Libre Comercio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La ratificación de la adhesión a las instituciones de comercio internacional y firmas de tratados de libre comercio exige someterse a los acuerdos de derechos de propiedad intelectual, elemento clave para las transnacionales dedicadas a la bioprospección y la biogenética“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Tatrados de 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ibre Comercio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iberalización del comerci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upresión de barreras arancelar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acilidades a los inversionis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arencia de una agenda soc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Se ubican por encima de las leyes secundar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exico (TLCAN):  Creación y modificación de sus leyes en materia de pa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086600" y="2668680"/>
            <a:ext cx="1752120" cy="1674360"/>
            <a:chOff x="7086600" y="2668680"/>
            <a:chExt cx="1752120" cy="1674360"/>
          </a:xfrm>
        </p:grpSpPr>
        <p:pic>
          <p:nvPicPr>
            <p:cNvPr id="331" name="CAFTA-logo-187-web" descr=""/>
            <p:cNvPicPr/>
            <p:nvPr/>
          </p:nvPicPr>
          <p:blipFill>
            <a:blip r:embed="rId1"/>
            <a:stretch/>
          </p:blipFill>
          <p:spPr>
            <a:xfrm>
              <a:off x="7086600" y="2668680"/>
              <a:ext cx="1752120" cy="16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088040" y="3963240"/>
              <a:ext cx="93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00"/>
                  </a:solidFill>
                  <a:latin typeface="Arial"/>
                </a:rPr>
                <a:t>CAFT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2485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Plan Puebla Panamá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tento de integración económica del sur-sureste de México y los demás países de Centroamér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bre convenios de bioprospección y de diversidad biológ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xige el cumplimiento de los Acuerdos de Propiedad Intelectu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ocupación por la disponibilidad y calidad de los alim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5" name="PPP" descr=""/>
          <p:cNvPicPr/>
          <p:nvPr/>
        </p:nvPicPr>
        <p:blipFill>
          <a:blip r:embed="rId1"/>
          <a:stretch/>
        </p:blipFill>
        <p:spPr>
          <a:xfrm>
            <a:off x="5638680" y="254160"/>
            <a:ext cx="1981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Corredor Biológico Mesoamericano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00"/>
                </a:solidFill>
                <a:uFillTx/>
                <a:latin typeface="Arial"/>
              </a:rPr>
              <a:t>Propósito: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unir una de las biodiversidades mas ricas del mundo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Valor económico de la diversida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ctividades económicas a desarrollar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Servicios ambienta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Bioprospecció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Ecoturismo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00"/>
                </a:solidFill>
                <a:uFillTx/>
                <a:latin typeface="Arial"/>
              </a:rPr>
              <a:t>Debate: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pivatización de la biodiversidad y de los conocimientos tradicionales milenario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8" name="mesoamerica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3619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VIII. Alternativa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ff66"/>
                </a:solidFill>
                <a:latin typeface="Arial"/>
              </a:rPr>
              <a:t>1. </a:t>
            </a:r>
            <a:r>
              <a:rPr b="0" lang="de-DE" sz="32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Acciones concret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99ff66"/>
                </a:solidFill>
                <a:latin typeface="Arial"/>
              </a:rPr>
              <a:t>Formas de movilización y participación ciudadan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ff66"/>
                </a:solidFill>
                <a:latin typeface="Arial"/>
              </a:rPr>
              <a:t>2.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Consejos práctic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99ff66"/>
                </a:solidFill>
                <a:latin typeface="Arial"/>
              </a:rPr>
              <a:t>Consejos para la vida diari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9ff66"/>
                </a:solidFill>
                <a:latin typeface="Arial"/>
              </a:rPr>
              <a:t>3.</a:t>
            </a:r>
            <a:r>
              <a:rPr b="0" lang="de-DE" sz="32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i se pue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99ff66"/>
                </a:solidFill>
                <a:latin typeface="Arial"/>
              </a:rPr>
              <a:t>Ejemplos exitosos de otros países de asociación y solidar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1" name="PULGAR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039680" cy="132732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3352680" y="3344760"/>
            <a:ext cx="4969080" cy="3078360"/>
            <a:chOff x="3352680" y="3344760"/>
            <a:chExt cx="4969080" cy="3078360"/>
          </a:xfrm>
        </p:grpSpPr>
        <p:pic>
          <p:nvPicPr>
            <p:cNvPr id="343" name="campesinos%20en%20accion" descr=""/>
            <p:cNvPicPr/>
            <p:nvPr/>
          </p:nvPicPr>
          <p:blipFill>
            <a:blip r:embed="rId2"/>
            <a:stretch/>
          </p:blipFill>
          <p:spPr>
            <a:xfrm>
              <a:off x="5638680" y="3344760"/>
              <a:ext cx="26830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shopping" descr=""/>
            <p:cNvPicPr/>
            <p:nvPr/>
          </p:nvPicPr>
          <p:blipFill>
            <a:blip r:embed="rId3"/>
            <a:stretch/>
          </p:blipFill>
          <p:spPr>
            <a:xfrm>
              <a:off x="3352680" y="5486400"/>
              <a:ext cx="495324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1. Acciones Concreta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Forjar alianzas entre grupos rurales y urban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Optar por la agricultura orgánic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esión social y rechazo contra los transgé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xigir el cumplimiento del Principio de Precaució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tiquetado obligatori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brir espacios de discució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ey de Biosegurida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791320" y="2395440"/>
            <a:ext cx="3047760" cy="3882960"/>
            <a:chOff x="5791320" y="2395440"/>
            <a:chExt cx="3047760" cy="3882960"/>
          </a:xfrm>
        </p:grpSpPr>
        <p:pic>
          <p:nvPicPr>
            <p:cNvPr id="348" name="etiquetas" descr=""/>
            <p:cNvPicPr/>
            <p:nvPr/>
          </p:nvPicPr>
          <p:blipFill>
            <a:blip r:embed="rId1"/>
            <a:stretch/>
          </p:blipFill>
          <p:spPr>
            <a:xfrm>
              <a:off x="5791320" y="4546440"/>
              <a:ext cx="2590560" cy="17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feria%20ecologica" descr=""/>
            <p:cNvPicPr/>
            <p:nvPr/>
          </p:nvPicPr>
          <p:blipFill>
            <a:blip r:embed="rId2"/>
            <a:stretch/>
          </p:blipFill>
          <p:spPr>
            <a:xfrm>
              <a:off x="7086600" y="2395440"/>
              <a:ext cx="1752480" cy="160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2. Consejos Práctico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formarse más sobre los transgé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onsumir productos nacionales, de preferencia orgá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vitar alimentos de Estados Unidos, Argentina, Canadá o Chi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vitar la comida chatarr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gricultura urban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6400800" y="1981080"/>
            <a:ext cx="2209680" cy="3832200"/>
            <a:chOff x="6400800" y="1981080"/>
            <a:chExt cx="2209680" cy="3832200"/>
          </a:xfrm>
        </p:grpSpPr>
        <p:pic>
          <p:nvPicPr>
            <p:cNvPr id="353" name="kellogs%20y%20muerte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6400800" y="1981080"/>
              <a:ext cx="220968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an%20bimbo" descr=""/>
            <p:cNvPicPr/>
            <p:nvPr/>
          </p:nvPicPr>
          <p:blipFill>
            <a:blip r:embed="rId2"/>
            <a:stretch/>
          </p:blipFill>
          <p:spPr>
            <a:xfrm>
              <a:off x="6400800" y="4419720"/>
              <a:ext cx="2171880" cy="1393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mapamundi" descr=""/>
          <p:cNvPicPr/>
          <p:nvPr/>
        </p:nvPicPr>
        <p:blipFill>
          <a:blip r:embed="rId1"/>
          <a:stretch/>
        </p:blipFill>
        <p:spPr>
          <a:xfrm>
            <a:off x="6400800" y="4073400"/>
            <a:ext cx="1328760" cy="16416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3. Si se puede!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60% de los europeos contra los transgé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l municipio de Paraíso en Costa Rica se ha declarado </a:t>
            </a:r>
            <a:r>
              <a:rPr b="0" lang="de-DE" sz="2800" spc="-1" strike="noStrike">
                <a:solidFill>
                  <a:srgbClr val="99ff66"/>
                </a:solidFill>
                <a:latin typeface="Arial"/>
              </a:rPr>
              <a:t>Territorio Libre de Transgé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ed de Comercio Comunitario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lternativo COMAL – Hondu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groecología en la Ind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uba – renacimiento de la subsistenc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8077320" y="2057400"/>
            <a:ext cx="838080" cy="3657600"/>
            <a:chOff x="8077320" y="2057400"/>
            <a:chExt cx="838080" cy="3657600"/>
          </a:xfrm>
        </p:grpSpPr>
        <p:grpSp>
          <p:nvGrpSpPr>
            <p:cNvPr id="359" name=""/>
            <p:cNvGrpSpPr/>
            <p:nvPr/>
          </p:nvGrpSpPr>
          <p:grpSpPr>
            <a:xfrm>
              <a:off x="8077320" y="2057400"/>
              <a:ext cx="838080" cy="3657600"/>
              <a:chOff x="8077320" y="2057400"/>
              <a:chExt cx="838080" cy="3657600"/>
            </a:xfrm>
          </p:grpSpPr>
          <p:pic>
            <p:nvPicPr>
              <p:cNvPr id="360" name="biosiegel" descr=""/>
              <p:cNvPicPr/>
              <p:nvPr/>
            </p:nvPicPr>
            <p:blipFill>
              <a:blip r:embed="rId2"/>
              <a:stretch/>
            </p:blipFill>
            <p:spPr>
              <a:xfrm>
                <a:off x="8077320" y="5053320"/>
                <a:ext cx="838080" cy="66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etiket" descr=""/>
              <p:cNvPicPr/>
              <p:nvPr/>
            </p:nvPicPr>
            <p:blipFill>
              <a:blip r:embed="rId3"/>
              <a:stretch/>
            </p:blipFill>
            <p:spPr>
              <a:xfrm>
                <a:off x="8077320" y="3470400"/>
                <a:ext cx="838080" cy="79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genfrei%20tomate" descr=""/>
              <p:cNvPicPr/>
              <p:nvPr/>
            </p:nvPicPr>
            <p:blipFill>
              <a:blip r:embed="rId4"/>
              <a:stretch/>
            </p:blipFill>
            <p:spPr>
              <a:xfrm>
                <a:off x="8077320" y="2848680"/>
                <a:ext cx="838080" cy="65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ohnegentechniksiegel" descr=""/>
              <p:cNvPicPr/>
              <p:nvPr/>
            </p:nvPicPr>
            <p:blipFill>
              <a:blip r:embed="rId5"/>
              <a:stretch/>
            </p:blipFill>
            <p:spPr>
              <a:xfrm>
                <a:off x="8077320" y="2057400"/>
                <a:ext cx="820440" cy="79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etiket%20tomate%20supe%20fre" descr=""/>
              <p:cNvPicPr/>
              <p:nvPr/>
            </p:nvPicPr>
            <p:blipFill>
              <a:blip r:embed="rId6"/>
              <a:stretch/>
            </p:blipFill>
            <p:spPr>
              <a:xfrm>
                <a:off x="8077320" y="4261680"/>
                <a:ext cx="838080" cy="791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5" name=""/>
            <p:cNvSpPr/>
            <p:nvPr/>
          </p:nvSpPr>
          <p:spPr>
            <a:xfrm>
              <a:off x="8077320" y="2057400"/>
              <a:ext cx="838080" cy="3657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7162920" y="35812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171480" y="3657600"/>
            <a:ext cx="1219320" cy="457200"/>
          </a:xfrm>
          <a:custGeom>
            <a:avLst/>
            <a:gdLst>
              <a:gd name="textAreaLeft" fmla="*/ 212760 w 1219320"/>
              <a:gd name="textAreaRight" fmla="*/ 883800 w 12193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. La Revolución Verd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5184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e basaba en 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monocultiv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en 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gran mecanizació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y en el empleo masivo de 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imizac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ejó consecuencias negativas que repercutieron en un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gradación ambiental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, 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salinizació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y l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erosió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de muchos suelos antes fértiles, y el descenso de sus contenidos de material único, así como una alta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dependencia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del mercado exterior para el suministro de los insumos que las nuevas tecnologías agrícolas reclamaba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3175200" cy="2577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Gracias por su atención!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69" name="transgenicos-comic" descr=""/>
          <p:cNvPicPr/>
          <p:nvPr/>
        </p:nvPicPr>
        <p:blipFill>
          <a:blip r:embed="rId1"/>
          <a:stretch/>
        </p:blipFill>
        <p:spPr>
          <a:xfrm>
            <a:off x="3373560" y="1981080"/>
            <a:ext cx="3103560" cy="41864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497120" y="61736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Año 20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azucar01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086600" cy="4649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077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Monocultivo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10640" cy="4190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de-DE" sz="2800" spc="-1" strike="noStrike">
                <a:solidFill>
                  <a:srgbClr val="ffff00"/>
                </a:solidFill>
                <a:latin typeface="Arial"/>
              </a:rPr>
              <a:t>Plantación de gran extensión con árboles u otro tipo de plantas de una sola especie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Son muy vulnerables a  enfermedades o plagas de      insec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En contravía a métodos de        manejo agrícola tales como                la rotación y los policul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6977160" y="548640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14299" y="10805"/>
                </a:moveTo>
                <a:lnTo>
                  <a:pt x="3794" y="17812"/>
                </a:lnTo>
                <a:lnTo>
                  <a:pt x="3794" y="3799"/>
                </a:lnTo>
                <a:close/>
              </a:path>
              <a:path fill="darken" w="21600" h="21611">
                <a:moveTo>
                  <a:pt x="16144" y="3799"/>
                </a:moveTo>
                <a:lnTo>
                  <a:pt x="16144" y="17812"/>
                </a:lnTo>
                <a:lnTo>
                  <a:pt x="17806" y="17812"/>
                </a:lnTo>
                <a:lnTo>
                  <a:pt x="17806" y="3799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Bt 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Bacillus thuringiensi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782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Es una bacteria de la naturaleza que elimina cietas plagas de insectos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Varias especies de Lepidoptera han desarrollado restistencia al B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Resistencia multi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os cultivos tienen diversidad de plagas e insec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uando acompaña al nombre de un producto indica que éste es transgénic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77" name="Bt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">
            <a:hlinkClick r:id="rId2" action="ppaction://hlinksldjump"/>
          </p:cNvPr>
          <p:cNvSpPr/>
          <p:nvPr/>
        </p:nvSpPr>
        <p:spPr>
          <a:xfrm>
            <a:off x="7696080" y="469116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4304" y="10800"/>
                </a:moveTo>
                <a:lnTo>
                  <a:pt x="3799" y="17806"/>
                </a:lnTo>
                <a:lnTo>
                  <a:pt x="3799" y="3794"/>
                </a:lnTo>
                <a:close/>
              </a:path>
              <a:path fill="darken" w="21611" h="21600">
                <a:moveTo>
                  <a:pt x="16149" y="3794"/>
                </a:moveTo>
                <a:lnTo>
                  <a:pt x="16149" y="17806"/>
                </a:lnTo>
                <a:lnTo>
                  <a:pt x="17812" y="17806"/>
                </a:lnTo>
                <a:lnTo>
                  <a:pt x="17812" y="379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Principio de Precaución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i="1" lang="de-DE" sz="3200" spc="-1" strike="noStrike">
                <a:solidFill>
                  <a:srgbClr val="ffff00"/>
                </a:solidFill>
                <a:latin typeface="Arial"/>
              </a:rPr>
              <a:t>... que no se autoricen los cultivos masivos y comercio de transgénicos hasta que no se tenga seguridad de que estos productos no causan daños a la salud humana y el medio ambiente...“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">
            <a:hlinkClick r:id="rId1" action="ppaction://hlinksldjump"/>
          </p:cNvPr>
          <p:cNvSpPr/>
          <p:nvPr/>
        </p:nvSpPr>
        <p:spPr>
          <a:xfrm>
            <a:off x="4343400" y="5181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Bioprospección o Biopiraterí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Investigadores buscan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valiosos organismos o plantas,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os llevan a sus laboratorios y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aíslan secuencias genéticas y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las patent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erck Pharmaceuticals tiene los derechos en Costa Rica para investigar, desarrollar y patentar nuevos productos de las especies de su bosque tropical.  Merck pagó </a:t>
            </a:r>
            <a:r>
              <a:rPr b="1" lang="de-DE" sz="2800" spc="-1" strike="noStrike">
                <a:solidFill>
                  <a:srgbClr val="99ff66"/>
                </a:solidFill>
                <a:latin typeface="Arial"/>
              </a:rPr>
              <a:t>2 dólares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por cada una!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">
            <a:hlinkClick r:id="rId1" action="ppaction://hlinksldjump"/>
          </p:cNvPr>
          <p:cNvSpPr/>
          <p:nvPr/>
        </p:nvSpPr>
        <p:spPr>
          <a:xfrm>
            <a:off x="7815240" y="609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248520" y="2130480"/>
            <a:ext cx="2743200" cy="1984320"/>
            <a:chOff x="6248520" y="2130480"/>
            <a:chExt cx="2743200" cy="1984320"/>
          </a:xfrm>
        </p:grpSpPr>
        <p:pic>
          <p:nvPicPr>
            <p:cNvPr id="386" name="laboratorio-2_jpg" descr=""/>
            <p:cNvPicPr/>
            <p:nvPr/>
          </p:nvPicPr>
          <p:blipFill>
            <a:blip r:embed="rId2"/>
            <a:stretch/>
          </p:blipFill>
          <p:spPr>
            <a:xfrm>
              <a:off x="6248520" y="2130480"/>
              <a:ext cx="2743200" cy="19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Mono_enjaulado" descr=""/>
            <p:cNvPicPr/>
            <p:nvPr/>
          </p:nvPicPr>
          <p:blipFill>
            <a:blip r:embed="rId3"/>
            <a:stretch/>
          </p:blipFill>
          <p:spPr>
            <a:xfrm>
              <a:off x="6248520" y="3251160"/>
              <a:ext cx="1143000" cy="860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Tipos de Biopiraterí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715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Transnacionales no reparten su beneficio con las comunidad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rivatización de recursos genéticos y conocimientos tradicion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Un agricultor utiliza semillas patentadas sin pagar regal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">
            <a:hlinkClick r:id="rId1" action="ppaction://hlinksldjump"/>
          </p:cNvPr>
          <p:cNvSpPr/>
          <p:nvPr/>
        </p:nvSpPr>
        <p:spPr>
          <a:xfrm>
            <a:off x="7281720" y="502920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mulheres_indigenas" descr=""/>
          <p:cNvPicPr/>
          <p:nvPr/>
        </p:nvPicPr>
        <p:blipFill>
          <a:blip r:embed="rId2"/>
          <a:stretch/>
        </p:blipFill>
        <p:spPr>
          <a:xfrm>
            <a:off x="6248520" y="2133720"/>
            <a:ext cx="26683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Patente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Derecho exclusivo otorgado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de-DE" sz="2800" spc="-1" strike="noStrike">
                <a:solidFill>
                  <a:srgbClr val="ffff00"/>
                </a:solidFill>
                <a:latin typeface="Arial"/>
              </a:rPr>
              <a:t>a la propiedad de un invento“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atentes de inventos técnic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Inventos técnicos, piezas de maquinaria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procedimientos (Ej. Programa de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computación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Patentes de la naturalez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99ff66"/>
                </a:solidFill>
                <a:latin typeface="Arial"/>
              </a:rPr>
              <a:t>Las transnacionales están patentando los recursos de la naturaleza.  Sin su permiso no se pueden sembrar semillas patentad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7315200" y="609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172200" y="2286000"/>
            <a:ext cx="2819520" cy="2819520"/>
            <a:chOff x="6172200" y="2286000"/>
            <a:chExt cx="2819520" cy="2819520"/>
          </a:xfrm>
        </p:grpSpPr>
        <p:pic>
          <p:nvPicPr>
            <p:cNvPr id="396" name="COPY_150" descr=""/>
            <p:cNvPicPr/>
            <p:nvPr/>
          </p:nvPicPr>
          <p:blipFill>
            <a:blip r:embed="rId2"/>
            <a:stretch/>
          </p:blipFill>
          <p:spPr>
            <a:xfrm>
              <a:off x="6172200" y="228600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fd_codigodebarras" descr=""/>
            <p:cNvPicPr/>
            <p:nvPr/>
          </p:nvPicPr>
          <p:blipFill>
            <a:blip r:embed="rId3"/>
            <a:stretch/>
          </p:blipFill>
          <p:spPr>
            <a:xfrm>
              <a:off x="6172200" y="4368960"/>
              <a:ext cx="121932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ADN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= Acido desoxirribonucleico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3924360" y="458136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Las proteínas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hemoglobina en la sang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nticuerp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nzima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hormon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608472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I.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La Revolución Verde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23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ff66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logros productivo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la necesidad d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grandes capitales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los pequeños agricultores no podían compet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migración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 a las grandes ciudad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problemas de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contaminació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00"/>
                </a:solidFill>
                <a:latin typeface="Arial"/>
              </a:rPr>
              <a:t>Quienes más se beneficiaron de la Revolución Verde fueron las empresas químicas, muchas multinacionales de la alimentación y los grandes hacendados. Hoy el hambre sigue siendo el mayor problema social y ambiental de la humanidad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4869000"/>
            <a:ext cx="9144000" cy="1989000"/>
            <a:chOff x="0" y="4869000"/>
            <a:chExt cx="9144000" cy="19890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5734080"/>
              <a:ext cx="13683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900000" y="4869000"/>
              <a:ext cx="8244000" cy="1512720"/>
            </a:xfrm>
            <a:prstGeom prst="wedgeEllipseCallout">
              <a:avLst>
                <a:gd name="adj1" fmla="val -40467"/>
                <a:gd name="adj2" fmla="val 50944"/>
              </a:avLst>
            </a:prstGeom>
            <a:solidFill>
              <a:srgbClr val="99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¡</a:t>
              </a: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0000"/>
                  </a:solidFill>
                  <a:latin typeface="Arial"/>
                </a:rPr>
                <a:t>La Revolución Verde no alcanza para aliviar el hambre, el problema es la concentración del poder económico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1.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La ingeniería genética en la agricultur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continuación de la Revolución Verd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obtener otras especies de organismos de más alto rendimiento, resistentes a plagas, de ciclo corto para levantar mas cosechas, etc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s principales empresas que controlan los transgénicos son: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Monsanto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staZeneca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Novartis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,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Dupont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 y </a:t>
            </a:r>
            <a:r>
              <a:rPr b="1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ventis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 Black"/>
              </a:rPr>
              <a:t>1. </a:t>
            </a:r>
            <a:r>
              <a:rPr b="1" lang="es-ES_tradnl" sz="4400" spc="-1" strike="noStrike">
                <a:solidFill>
                  <a:srgbClr val="ff0000"/>
                </a:solidFill>
                <a:latin typeface="Arial Black"/>
              </a:rPr>
              <a:t>La ingeniería genética en la agricultura</a:t>
            </a:r>
            <a:endParaRPr b="1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strategia de venta de las transnacionale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se vende el paquete comple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dependendica de una marc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os productos son paten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uso de las semillas o los insumos provoca multas graves para el agricult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véase Percy Schmeiß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1:29:27Z</dcterms:created>
  <dc:creator>test</dc:creator>
  <dc:description/>
  <dc:language>en-US</dc:language>
  <cp:lastModifiedBy>Jule</cp:lastModifiedBy>
  <dcterms:modified xsi:type="dcterms:W3CDTF">2005-10-28T20:43:44Z</dcterms:modified>
  <cp:revision>87</cp:revision>
  <dc:subject/>
  <dc:title>Folie 1</dc:title>
</cp:coreProperties>
</file>